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EFC-BD9E-40CE-A67B-AC02C903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F6D-C862-4FC2-9692-1C1ED833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0A607-CCB6-41E4-B737-F24B1100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92335-B9D8-4D74-B570-4050C6BB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12DED-6CF9-4AA6-9F6F-73C2D67E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6EB93-67DC-4426-973E-0BD843D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FEDE1-B884-4082-A156-A76931EF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F0CFB-EAB5-4AE6-A0D8-A4E55EC6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F3F1F-369F-4896-B18D-94959F44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50A09-CB61-443A-BDA0-20BFA568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F755A-832D-4707-867D-F8D5FF31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755C8-5294-4566-97F5-15E45CB3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96B-FEF7-438F-94AD-50216EB3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64FFE-B65B-42B0-A0E7-B3548B03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8DC77-7277-46C4-A226-103BF732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4C8D1-3C50-426E-8EB0-2F28A7B8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C0A18-621D-4368-BD96-5E67365C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E3DC7-C351-45A9-BDD8-06527427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93300-8188-4D5E-B248-053AAE1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F8A56-2DBC-45A9-BC0A-F05AEA27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415CB-0CDD-487F-AED9-2B27E51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D8A09-3F7B-432D-A094-ABE096D0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BB123-3E41-4267-976A-D3F6626C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044-A873-4966-BAAA-1DA2A89C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168E6-6F39-4B50-AAF0-1275323C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2AD03-F798-466E-AFF6-B4BFAE13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59127-034C-4588-BDF5-38ADA5EB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0E292-83D9-4ACE-A124-4D9DEB97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D41B6-5299-4FEC-96A1-2128F403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BC97A-E154-4E7C-9AF3-49A27694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CA207-F557-4060-A0AC-CECC235B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7C818-1427-45F8-A697-9B4DD3E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2FD7B-A18B-494B-AED4-99789D86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702F6-0791-4B43-AF40-F8C4A00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88AC-6CEC-4B62-84EE-B2F48C88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183C9-721B-4BC4-AD2F-055A98F5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E4737-9C8F-49EC-A544-4722B552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50E17-C5EA-4F10-B6A0-7FC2EBD3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DB185-B294-4BF2-AB21-9F903A03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B2BB7-1DC6-458E-AE85-1D1D8455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B6751-B758-46A1-B7F8-FDC7224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FA991-7F32-4039-A720-19A037E7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5BD07-8254-4522-9ABC-93A4A38A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482D1-C35C-46D9-9796-B4E5D79F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FE16E-EC22-45FA-AA35-A306CC83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755-5889-467B-980C-8A2EB489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F29C0-40BC-45BC-AB9B-0C0A260B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E729F-77F7-4A89-B377-14942C52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C04EA-B153-4AA2-BA1A-C5ADC9E8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4299F-79A4-445C-BA44-5E282D8E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37254-039A-4364-B389-A3755174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DB9D1-A756-42C1-AC84-E0F31E07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26463-1732-475A-83CE-0AAA2B66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9090D-B434-4073-A5CB-38AEBD9B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1F7B0-8F29-494F-957A-4A83E8CF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AD967-CF45-4B1C-9B93-5D5101A8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9A6A-99D8-48E7-B61E-A7B95426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EBD1B-04BC-4031-95C8-F407041F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3E436-A5D3-4BCD-AADB-F3C0DE8D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C6E53-0BF1-4AC6-AB57-729D43B0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47160-6452-4E64-8CD5-C525ABEB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94E9B-AE88-4BC4-8F23-ACC1C01D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DCD2D-AC1C-47F5-B7E7-599C5221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9C636-D70A-4B22-97D6-4B62E1DB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0590A-2B2D-4B2A-9C6A-47774FE7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82F77-F817-477F-B983-77D1CEF9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06449-959B-486D-8BAF-64198E9F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27AB-5645-4951-A9D3-07DB603F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2E11A-F3F9-4402-BA01-0189521C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18C3C-7397-409A-BD1D-EA417866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FF9DD-C34C-4935-A633-7D9DEAC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E1597-5537-42CE-8778-779738E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BF376-9A37-4014-8993-E8F12C6B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6F773-E05F-4F2C-9C78-977A746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1857E-F5A8-4050-8F2A-49216AA8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D5F21-59A1-4703-B1A9-B267BD24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74DDC-0F5A-41C7-B61E-0326588C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AE2E5-0A3F-4999-9204-431B3190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A2AD-B213-481D-AC40-DE374E62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A4EAF-3747-4656-9D26-C4F0C13D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7C995-46B6-4879-9D4A-AED84396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B6282-B4C9-45F2-A787-185C244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E6E26-4A31-4AAA-BE13-FA81DC07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943E2-2B86-471F-A146-773D580A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1F4ED-AB2C-4F48-8919-60991F5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F7A48-3C1B-4038-85AD-6404742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37D69-0AF4-47A6-89E4-DD3E3DD6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83CAF-D150-4FCE-A143-A5A6AE5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33701-2812-42A3-8F8E-78092492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AA02-1604-4D0B-A12D-1F3F9E1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D852A-B670-4805-99CA-4FE8D152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B3095-E2FE-4DE4-872A-4E4CF66E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218C0-06CB-4E95-84B9-244FD0BC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9633B-9A76-40BE-BFD8-0FB71FA5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605A0-51BA-402F-9259-7201A33B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2E5C7-C159-45DB-9B14-E75C849B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0509C-09B2-42AC-9583-287F973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3AFE7-5144-4BA4-912A-9178E87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E62C0-9C0C-4938-BF23-A19E4A84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E552A-C143-4689-ABA3-387CD82C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7C89-8FAE-4455-9A50-E604752C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9FF36-475B-4D63-92D9-3B8F1EE7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8BD05-1DF1-4E8D-AF41-12C479D0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BDAA6-9749-463E-85A1-B44F497F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C2835-0086-4939-AD14-24BD2121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5089F-587B-4C94-BFF9-1F403493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28CCD-EAC1-48A5-9AEE-DE45FF87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51464-1CE2-40A5-8BCC-3C7CA4ED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C8C34-1D1B-4D4D-8976-46DBC0CC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E9E69-35D7-49FC-9128-ADBA3EC3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2D822-C0A3-4FB9-A09A-DDAB080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CEA-CAE4-46A9-8304-BDF4F95C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4BAB-59C2-40C0-B8B1-E4DEC66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AEE41-3FEB-4590-A04C-3A403398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0D566-D51F-4FF0-A0C0-C89B06F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85C00-BED7-4C59-BA34-EFFE0F59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794C89-F6A0-455C-80B5-97520E37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986FF-2947-4CEF-AA08-6F4B1B3B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187EA-5DBC-4AC3-B60A-721329B0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40156-145C-4495-B845-0DAC52FF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7409E-C9DC-44C1-A122-781B30FE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95C90-30A2-42F3-994D-2901B2E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73CCB-C929-4E84-9CE7-38C5EB0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099B-F62F-4D6B-821B-E3C1F27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3F1A5-3A01-4B16-8616-95E4CA5B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948EB-9EF1-486B-B816-63DCE6C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9FFB1-8DA5-4654-A91D-D7BBC5A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B8924-17D7-45AE-A843-4F792D4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F7EE6-2303-4B92-BCA4-DF54449E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9EB8F-0F9D-4E7A-8B09-BBE4B853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4C88FF-6AE3-46A7-8553-50D2B7C5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03B29-8428-49D7-BA8C-DDD1F52B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F40E9-919F-4225-90A5-6CD9E126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74713-33B1-4DD1-A6F4-6EC1DAE2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81D3-82DC-4A97-9318-F90011B8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F10E7-EDA5-418E-8EDD-DF7E3812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11144-F85F-4713-AED7-CD0B459E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FAB33-4839-4CC2-B764-60A15D3C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8CA18-616F-4A91-8455-4A5C461C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C21D5F-7123-485F-8E07-6E333E6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04788-B14F-4653-8178-54025508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94347-A631-4B33-992E-CE9E27AE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26760-DDC9-4732-8ED3-DC3F2CB7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181DF8-123F-4EA5-AE7D-C935C9C5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72554-26DD-4BF6-8CE2-F8086648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16C1-3A26-4F96-A218-C93C251D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81945-F1B1-4551-B2DF-F7668B74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22927-E5FC-42CF-8A04-E4A343F1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225B2-503E-405E-A34E-29592BB4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964782-C3E4-4DEB-9105-DADB669C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23975-CA3A-4561-B17D-AAE160C2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3FA50-6F29-4D3A-A661-043A1FDC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FE491-D47A-4267-92F7-D187253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F4077-697F-42ED-903B-601E226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4813A-4CB4-4D09-93EB-E5743532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F1363-21D2-43B2-B634-9FA35299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EBCB-A65A-4E2B-9753-F4D0C9BA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7E18EF-A95A-4E78-9295-E396ADFA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28D2F6-852E-4213-A9EC-8FC64D91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04933-556A-4F84-B683-5F788922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9E004-8D68-4BB0-A77A-C173FE9C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3A50D0-F297-490C-AAE2-87D1F43D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A2604-6A2D-46DA-A3A7-6A44034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6C032-C6C6-4B1B-8042-5EBAA22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921F4-B7BC-4C20-9572-5D6FA32E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8A9A8-0D50-4B6E-B79D-090F40B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5B010-21A8-4604-AEDA-C5C52630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B010-4747-42CE-9DCD-411D9732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CCAE9-8E83-41B4-AFCE-A443BE0B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29428-67C9-491B-801F-D8DDDF26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C92B0-36B1-4B9F-8489-6E03D0F4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C147-D8C6-4219-9106-818792BE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7868-D153-41EB-A2F5-DD712ABB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2AF4-DEA0-4DBC-85AD-1F6D6C1E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A9FB-55AF-4DCA-AFD5-8D5DF31C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4A2-D737-4B97-9805-2A870B82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2833-C618-4B1E-BF0F-90313FF1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7A9F5-3C47-47C0-88AE-90A5FA3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EFD0-AED0-47A4-AA2E-A478BB0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88AC-2271-489A-942A-BD8BB5C3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C789C-8448-4AA6-8634-150E4002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E980-0652-4C7C-91C0-DBD23150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2DD8-A597-48E1-AB02-057C1DEE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7E98-1219-4926-96E9-0C11661B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242E8-DCDC-4888-890B-A6965068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484B-D64C-4EE3-A05A-98FB2C76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683-1FF9-4248-B970-3D8BDFA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755C-C704-4AFC-9463-37054ADB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35ED-F7BF-461B-9FEC-5DA89204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95E55-505E-4076-85B4-F2C9D324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498B-D569-4336-88C9-B46A5B97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20BC-B331-49D9-8BDA-F69604B5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88F9-ED8A-4E0B-BD6A-803F01A3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E13F-EE34-4BD8-9331-8003D978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4A56E-F731-495D-929A-AF45E529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9049-8DFA-412E-BC01-1DD12F96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143A1-0FC6-42E0-BBCD-E1BC01CC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AC7-1D68-43A5-B5BA-7990A4BC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C5E27-88FB-49B0-98D4-A9EA4B0B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4A228-D30D-4E43-A8B3-490FB1E0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4958E-70F6-40AE-8519-C623451F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1590-36FB-4B8E-B44C-D7284D0C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DA66-21A0-49F5-8E86-6096A40B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290FA-79B7-41D4-8B70-CDF00E5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543B6-C090-4D58-8BCC-441A2A4C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15E1-B0A9-46F6-9134-0E8BA5C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828FA-818F-4131-8E24-3DA756FC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1A727-6801-4987-ADF2-26E8691A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E63-F003-48F7-8C44-769FA783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ED936-0EE7-436E-A338-075487BF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E031-B1AA-4A89-BE62-5CE13F64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97798-F25C-42D7-88F3-B716AF9A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BE181-5CBC-4FEC-B12A-DF72D41B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3BA8F-88D1-4C00-84DA-05556DBF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11856-BE2B-4DC8-94C5-041534F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0DAFF-83BB-4EBA-BAAD-AAF831D8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B4773-4671-475C-8AB5-A2C36D7F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47AD3-F528-4AEF-9076-CCE01E66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BB793-EEE3-4F61-A77A-76A0ED8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234-00DA-40B5-9106-15CEB56C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D1992-4DA7-49D2-ABB4-53E859C8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57A3-ED79-4B37-B74F-355D2206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80CB8-5C86-4C29-9EBC-BBDEB78B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6F79-A7FE-4E85-99DD-E7594A88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A81A2-F699-42B5-B6F3-FCF73FB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85380-76F8-45EA-845E-102FF18C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BA3E9-7BF0-46A4-A52D-A74F0CCE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ECCB1-CA7F-4BC3-9D23-CF185DA8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DDBAE-2EF2-466F-A363-6204E891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A25E1-78AA-40A0-9EDF-72E036CC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E73-2776-4528-B2DA-82DF43E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74CB-61AF-4E48-B404-92EB3631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0E77-E669-48E4-A73E-E3900617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4D34E-74BC-4A0A-8270-29552AA2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CB4D6-DCBC-44FE-A60F-17AE666B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FA12-3366-4F1C-BB2D-27F4CE98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2B817-F217-4879-9838-47878B6C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ED9F-2AED-4549-AD93-E99EAC4C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3AF17-0AA1-4E5F-8160-E629FCCC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D78D7-1B16-44E1-B62E-F24D36D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67357-CCBE-4712-964E-1B2222E1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031-1E7E-4073-9864-C58E334E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48C0F-F1DF-424E-9E2A-92E429D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98F80-06AF-4FA2-8669-75320F5F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8034C-CB2E-4F21-86D6-011A38A4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AB59B-849E-4E58-BE71-EBF1296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EA9A5-5BB0-4D72-B3C1-9F6B0919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8591A-A55E-45CC-928E-9C9FD1D0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D5948-50F0-4380-BA49-C3F700D3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4E99E-4916-48F4-9B6E-F70DDCD1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FDF24-A782-485A-A8DA-EDDA64BE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6265C-3630-4D37-B7E8-4337FE52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55D9-C03B-4E1C-909C-42E2A49DB9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9470-0B84-4024-9725-2DFD989DAC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72BB-A74D-4E32-ACCB-9CCEF21641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FE3A-172C-432B-AA48-6D38DA1C63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FB7E-453F-4324-850D-D4D07930B5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C6E3-45BC-4398-9963-65F7C4B52D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209D-5292-4FCB-B665-0ED0BFE59A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EC9A-E345-4317-BF99-8177B03E74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149F-8A7A-4D98-A4EE-23728E5314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D72E-FE6B-4255-85A9-3C732A764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B1CB-5439-4C3C-BD03-287C973D4B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BA01-D9FC-427F-9643-072EE56035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E0ED-488F-4EB0-A272-D97B40FA5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0884-6531-4058-BC09-426E96D1B0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F2E7-7C84-44C7-9A74-FD1CC4C2EA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E17B-AD26-40C9-8A20-8F93FFF53E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E58A-398A-4BE1-AEB1-97B24587C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0DFF-00C0-4295-B3C9-EA77DF64DC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1DE2-E414-4E82-88C8-01C1326E8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9337-91E1-4460-B7A6-1A6E9F6B89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0269-EF54-4675-9F71-47186B060D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3259-7528-4EAA-B849-BE3C9D160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3C8E-33B1-485D-8394-204CEAC17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891D-8E34-426E-8F0D-8A6FBD9E7C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C4F0-1EBE-4EDD-93FB-57287E608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FB05-CD61-400F-B23E-5820D103E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B35A-87BD-45D8-95AB-1D7BF1F230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BDAA-1245-44E2-B8E9-78464A3565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540-64D3-4850-A877-7D5B3E8BE3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C3A7-BDBB-4ED5-928C-75F5735FBC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5A2C-0017-4525-B08F-C171811C3D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71BD-7717-44CF-9BF0-0D8A562DD2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4A1E-ED40-46C5-BA11-1FBF743DCC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B360-1745-44C0-BC4A-1814A08649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743F-BFD4-45C9-9F0D-07A00E8DF7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76E3-0BAE-4F1C-8459-66AF9FC097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32DF-6046-4A02-935A-2BCC2627C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B05F-093F-4260-A89A-BCC4AFABB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601B-C56D-42CE-9500-8C6B785C94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391A-C4A8-43A0-BA20-CFC639F79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52520" y="2971800"/>
            <a:ext cx="643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1300320" y="1125360"/>
            <a:ext cx="6543360" cy="215280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69634" descr=""/>
          <p:cNvPicPr/>
          <p:nvPr/>
        </p:nvPicPr>
        <p:blipFill>
          <a:blip r:embed="rId2"/>
          <a:stretch/>
        </p:blipFill>
        <p:spPr>
          <a:xfrm>
            <a:off x="347760" y="3417840"/>
            <a:ext cx="8448480" cy="2171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413240" y="138420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7236000" y="1370160"/>
            <a:ext cx="576000" cy="7347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4643280" y="226224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7221600" y="229068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1835280" y="3687840"/>
            <a:ext cx="576000" cy="7347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4788000" y="3701880"/>
            <a:ext cx="720720" cy="735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7596360" y="3730680"/>
            <a:ext cx="720720" cy="7351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1836720" y="4551480"/>
            <a:ext cx="720720" cy="7347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5003640" y="4537080"/>
            <a:ext cx="863640" cy="7351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8308800" y="4567320"/>
            <a:ext cx="61308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714240"/>
            <a:ext cx="8534160" cy="5429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55640" y="363060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55640" y="426420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5640" y="497052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55640" y="5618160"/>
            <a:ext cx="5400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285840" y="52560"/>
            <a:ext cx="8572320" cy="67528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410364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539640" y="3616200"/>
            <a:ext cx="410364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395280" y="4292640"/>
            <a:ext cx="410364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395280" y="4941720"/>
            <a:ext cx="410364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68360" y="5618160"/>
            <a:ext cx="410364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468360" y="6321600"/>
            <a:ext cx="6119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276120" y="1185840"/>
            <a:ext cx="8591760" cy="4486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3960720" cy="934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3227400"/>
            <a:ext cx="3960720" cy="934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684360" y="440856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539640" y="5099040"/>
            <a:ext cx="4824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281160" y="795240"/>
            <a:ext cx="8581680" cy="56581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042920" y="3616200"/>
            <a:ext cx="6193080" cy="89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826920" y="4695840"/>
            <a:ext cx="590580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755640" y="5373720"/>
            <a:ext cx="590544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826920" y="5992920"/>
            <a:ext cx="59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5" descr=""/>
          <p:cNvPicPr/>
          <p:nvPr/>
        </p:nvPicPr>
        <p:blipFill>
          <a:blip r:embed="rId1"/>
          <a:stretch/>
        </p:blipFill>
        <p:spPr>
          <a:xfrm>
            <a:off x="295200" y="2071800"/>
            <a:ext cx="85536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461880" y="1190520"/>
            <a:ext cx="8220240" cy="4476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684360" y="1239840"/>
            <a:ext cx="352728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84360" y="1859040"/>
            <a:ext cx="352728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755640" y="2506680"/>
            <a:ext cx="352728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39640" y="3213000"/>
            <a:ext cx="352764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611280" y="3860640"/>
            <a:ext cx="691344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611280" y="447984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8"/>
          <a:stretch/>
        </p:blipFill>
        <p:spPr>
          <a:xfrm>
            <a:off x="468360" y="5172120"/>
            <a:ext cx="813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266760" y="830160"/>
            <a:ext cx="8610480" cy="5838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2231" descr=""/>
          <p:cNvPicPr/>
          <p:nvPr/>
        </p:nvPicPr>
        <p:blipFill>
          <a:blip r:embed="rId1"/>
          <a:stretch/>
        </p:blipFill>
        <p:spPr>
          <a:xfrm>
            <a:off x="590400" y="2490840"/>
            <a:ext cx="7963200" cy="1876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156360" y="3803760"/>
            <a:ext cx="1079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4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